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0A9B-1383-4285-B2DD-7C42B2D3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1FEE-182D-4E02-B0B3-463663A8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C9F-C303-4ABB-98B2-20D25B31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15B-F01A-459C-AB4D-3F6EBB02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CCB-0E7C-4D94-A0DC-C4F909A0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E4B-FB17-4E39-80A1-03F89622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F513-D878-4397-AB58-4F2CF80D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A52-8D94-4C7E-8271-A1D58051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B8B2-5682-421F-9A7E-3339CF4F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9BA1-43C9-4F5C-AF5E-209DBE69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7BA3-D4FE-49DD-98E4-8A5A1162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0605-8A60-41F5-AE8D-3F60CB21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Generic Uncials 'Snowcapped'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9F41-455B-47F8-B957-A2C96926E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Generic Uncials 'Snowcapped'"/>
              </a:rPr>
              <a:t>3.3: Quadratic Inequalities</a:t>
            </a: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29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Generic Uncials 'Snowcapped'"/>
              </a:rPr>
              <a:t>Remembering inequalities</a:t>
            </a: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qualities use &lt;, &gt;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, and ≥ to compare two expr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quadratic inequality can be written in the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bx+c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an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, and ≥ could be u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Generic Uncials 'Snowcapped'"/>
              </a:rPr>
              <a:t>Graphical solutions with a graph</a:t>
            </a:r>
            <a:endParaRPr b="1" lang="en-US" sz="44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ine the graph.  Determine if you want values greater than zero or less than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rite the solution in set builder n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y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x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(x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(x)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(x)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76720" y="3429000"/>
            <a:ext cx="5581440" cy="2838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Generic Uncials 'Snowcapped'"/>
              </a:rPr>
              <a:t>Solving algebraically</a:t>
            </a: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olve using any method that you’ve used to solve quadratic equations, includ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solving this 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5x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Generic Uncials 'Snowcapped'"/>
              </a:rPr>
              <a:t>Now imagine the graph…</a:t>
            </a: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: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5x-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way does this graph o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es f(x)=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x=-8 and x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uld f(x)&gt;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&gt;8 or x&lt;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uld f(x)&lt;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&lt;x&lt;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2971800" cy="29815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Generic Uncials 'Snowcapped'"/>
              </a:rPr>
              <a:t>Rules for solving algebraically</a:t>
            </a: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in the for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bx+c&gt;0 (any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, and ≥ could be us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ve for a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bx+c=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this information to break up the number line into intervals where y=a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bx+c is positive or neg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rite your solution.  Pick test values if necessary to verify your solution (the book refers to this as using a table) or graph to check your 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Generic Uncials 'Snowcapped'"/>
              </a:rPr>
              <a:t>Try these</a:t>
            </a: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100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x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f(x)=0, f(x)&gt;0, f(x)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Generic Uncials 'Snowcapped'"/>
              </a:rPr>
              <a:t>Your assignment</a:t>
            </a:r>
            <a:endParaRPr b="1" lang="en-US" sz="4800" spc="-1" strike="noStrike">
              <a:solidFill>
                <a:srgbClr val="1c1c1c"/>
              </a:solidFill>
              <a:latin typeface="Generic Uncials 'Snowcapped'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213-214 #2-48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7:19:44Z</dcterms:created>
  <dc:creator>nuhs</dc:creator>
  <dc:description/>
  <dc:language>en-US</dc:language>
  <cp:lastModifiedBy>nuhs</cp:lastModifiedBy>
  <dcterms:modified xsi:type="dcterms:W3CDTF">2008-01-29T17:48:16Z</dcterms:modified>
  <cp:revision>4</cp:revision>
  <dc:subject/>
  <dc:title>3.3: Quadratic Inequalities</dc:title>
</cp:coreProperties>
</file>